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2B2-387F-40B0-9F8D-3FF8C66D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7EE-F480-4666-BB18-D8B97F9F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92A-067A-44A7-B346-EA6FEB5C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530-7B00-4249-90D0-3817FABC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920-227D-4943-8838-6B97FAE5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57D8-E871-4E1D-BF7A-2206C62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F90-D638-4FC1-B59C-1FE8FE6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997-9FAB-4718-8B3B-D228E8A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0966-4C34-4C7B-B60C-46DB2314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773-17C4-4726-97A3-72C076C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73B-8061-4B7D-AD89-77147D4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AB2-B1AC-4EBB-92BA-53D5BBD5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597-85B6-4BED-BFEE-79365139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F32-1489-4216-AAC6-75CF665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6721-AD57-43C8-A780-301C7822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13D2-F4DE-44C4-AF56-511F539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2270-FF79-4CD2-978A-169F4BF5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A67-2E92-44CE-8FE6-DDA10BC4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43A-D050-4D65-82B3-B705A01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E89-9095-4D58-AE41-D099E202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AC9-13DF-426D-8CD6-29B813C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F2-5890-43D7-A31A-BD9FBB1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F1F-FCB9-40F1-85A0-21797CF8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1BF-E0EF-47D6-9631-27B8F134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D21-A159-4B73-91CF-450CCC56567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DD3-7E2B-47D3-BEFE-0DF16836F94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ext stop: Paradi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cro Review (some new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swer is $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to stability is maintaining money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it at a level &amp; keep it t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smooth out fluctu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stick to monetary rule all will be bet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 $ under control to set inflation &amp; pr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just ide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iously don’t have kinks worked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uldn’t have had another massive rece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s as to how waves can be smoot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I:  How big is i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order for the gov’t to know what to do, must know how well the economy is do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2 sets up way for the gov’t to evaluate the econo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D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al value of goods &amp; services produced in a country in a given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stuff we are ma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 perfect figure, but best single number snapsh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 ways to get 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ome approach:  WIR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nditure approach:  CIG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ce money spent by you is money earned elsewhere the 2 should be equ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keep accurate, avoid several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blem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Double-counting:  adding same element more than one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lue added approach (VA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AMA ADMIN RIGHT NOW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count final goods/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Prices change…distorting out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is how MU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how much we pay, but how much we g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care about pr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e about quant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prices change, the apparent value of what we are producing changes, but do we get m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al vs nomi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minal calculates value based on prices right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sier to do, but not as g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 keeps prices constant so any changes reflect quant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rder, but actually has val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 are connecte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y difference btwn them is Nominal is inflated by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deflator used to “undo” impact of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 = (Nominal / GDP deflator) x 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deflator = (Nom/Real) x 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le poi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how well economy is doing so we can stabilize the business cy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individually we don’t care about GDP…we care about 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ycle impacts 3 other key th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tion, unemployment,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t some new stuff fir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found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nd out in 30 minutes (or s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s go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more than others, some go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 Index measures change in prices in gen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PI: what average urban consumer bu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rts with a bask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identify what’s in the market basket (never chang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how much that group of things changes over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is how you measure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Calculate bas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 x Q for all things in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Calculate C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basket / base basket x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Calculate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CPI 2-CPI 1) / CPI 1 x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neral go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how much prices are affecting us (nobody can escape th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graphs showing how it can 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ople w/o jobs who want 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ggest thing is that it reduces our EFFICIENCY (OKUN’S LAW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P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/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ll employment = natural rate of unemployment = LRAS = potential GD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W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be using all resources to get most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emphasize capital to get more in the fu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going present consumption to increase future out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ird thing is GDP not effect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on’t matter till la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ter never comes but the past’s later is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nt economy growing but sacrifices now help fu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ways to show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st thing possible is to have the opposite (STAGFL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’t assumed role of business cycle moder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&amp; crew are used to evaluate how well economy is do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tion, unemployment, growth sub-measures of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lass look at how they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? Why? Why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did macro come fro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? Who? How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v’t’s only job in INTERVENING is to 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happens if they don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e love Mayna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studies have been based on Keynesian econom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that gov’t needs to (is responsible to) stabiliz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is it necessar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cky” wages &amp; equilibrium below desired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p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p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using everything, pay more to get more, pay more to get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anywhere &amp; stay any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’t uses fiscal &amp; monetary to “fix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s &amp; wages “sticky”; adjust spending (CIGX) to keep r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s’t always like th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w a baby in water, they will swi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ld people say economy will to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 it alone &amp; it will fix it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sical economists favored laissez-faire (hands off approac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have busines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exible” prices &amp; wages keep it @ L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changes to keep economy in LR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recession…if not working do you e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eating makes you willing to work for 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not doing something economy values you are in trou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t it will be o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goes down must come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’S LAW:  supply creates it’s own dem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switched to Keynesian thought b/c we weren’t willing to wa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ither are “right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 ideas as to how to 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tarists different y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redence to sticky but don’t think fiscal policy 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TIONAL EXPEC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DING-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20:32Z</dcterms:created>
  <dc:creator>Lewisburg Area School District</dc:creator>
  <dc:description/>
  <dc:language>en-US</dc:language>
  <cp:lastModifiedBy>Lewisburg Area School District</cp:lastModifiedBy>
  <dcterms:modified xsi:type="dcterms:W3CDTF">2010-04-19T14:43:11Z</dcterms:modified>
  <cp:revision>3</cp:revision>
  <dc:subject/>
  <dc:title>Next stop: Paradise</dc:title>
</cp:coreProperties>
</file>